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B9CD-4B5A-4183-B13F-58C1E950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ED90-3968-407D-A570-41447B1B0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E308-2786-433C-BD9D-FC3AF8381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6DA6-80CA-4F68-8A86-7F8805A6C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920C-8DBC-413D-AA5C-8F72F3571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17F6-B00B-4326-B62A-696CBFF16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D453-BEC4-4C55-9FEE-B0884B0F3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4C91-C462-4CE4-9A13-C400202D3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BF68-CAAB-40ED-B3E1-4E2E68154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9E1A-EB2F-46A1-8962-406E7B953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7EC2-324E-407C-B6E2-3BD4932ED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675C-6FFB-439C-AC2B-BC1837301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A070-B7C6-41F8-AA10-2544FDFD8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9BA6-098C-4F0E-859F-78E50DBB9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9461-B513-4D77-80DB-48C32834E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9E3-99D2-443F-ADA5-1FCC6262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32A-452C-48A6-86C5-7D96BEF8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45A-9471-4B6E-9FA0-AD7E6975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CF3-89C1-4331-AC8E-D07FE474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BD9-7D16-478D-BBFC-758EE070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929-5093-490A-8B81-84DCCACA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9A8-AF80-4DB3-9358-FD1DD858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CF1-A7FC-4708-BC97-B31A9468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B77-75DC-4FBD-B32C-49633C1D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47D-3ADA-4C94-8F08-325B2C73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7BB-6053-4417-8D6D-D2E3EC67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29A-4BA8-4697-827F-6F264FF6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B069-3839-4443-AB57-055D716D1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Style Sheets for Access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ston-IA September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5520" y="441360"/>
            <a:ext cx="330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el Sklar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16360" y="685800"/>
            <a:ext cx="45655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647712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3 WAI Guid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direct accessibility of embedded user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for device independ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im sol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3C technologies and guideli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ontext and orientation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lear naviga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documents are clear and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Accessibility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media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contr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acing, alignment, positioning contr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-centric style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ral style she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6200" y="2362320"/>
            <a:ext cx="2133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S Style She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133720"/>
            <a:ext cx="2133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-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703600"/>
            <a:ext cx="1371600" cy="17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433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352680"/>
            <a:ext cx="10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895480"/>
            <a:ext cx="569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3048120"/>
            <a:ext cx="569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200400"/>
            <a:ext cx="569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562720" y="22856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8098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0492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1371600"/>
            <a:ext cx="20574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o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84600" y="574200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media screen {body  {color: black;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for Accessi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your aud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e assistive devices and learn to use 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de on interim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lude accessibility in your testing regi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for Accessi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t to well-formed HTML 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ove embedded display inf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force consistency in documen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oid element mis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BIG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bility improv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satisf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car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ng acces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guide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ing for acces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ing with style she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BIG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0880"/>
            <a:ext cx="78483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BIG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0880"/>
            <a:ext cx="78483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781680" cy="472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ng Acces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content that is accessible despite any physical, sensory, and cognitive disabilities, work constraints or technological barri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bility and Acces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ability problems impact all users equ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bility problems impact people with dis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360" y="6095880"/>
            <a:ext cx="306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cher, Constructing Accessible Web Site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Design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 coding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aration of structure and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s for data, not lay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stent design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wards compat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Business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access for people with disabilities and the elderly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greater usability for non-disabled Web users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s technical performance 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an organization's commitment to social responsibility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organizations avoid li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3 WAI Guid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76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quivalent alternatives to auditory and visual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rely on color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rkup and style sheets and do so prop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natural language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ables that transform grac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pages featuring new technologies transform gracefu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user control of time-sensitive conten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3:37:29Z</dcterms:created>
  <dc:creator>Joel Sklar</dc:creator>
  <dc:description/>
  <dc:language>en-US</dc:language>
  <cp:lastModifiedBy>Joel Sklar</cp:lastModifiedBy>
  <dcterms:modified xsi:type="dcterms:W3CDTF">2003-09-30T17:02:07Z</dcterms:modified>
  <cp:revision>136</cp:revision>
  <dc:subject/>
  <dc:title>No Slide Title</dc:title>
</cp:coreProperties>
</file>